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C80-AB5D-454B-8B87-68B490B2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337-D482-4339-87D7-9C16541D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261-0914-434E-8A2F-95C4A2DB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4AF-D4EC-4EB4-B884-51816904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963-E771-4DCB-A8E5-C54247F0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99EC-F528-47CB-9AB0-0B7DA886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DAC-9929-4540-8DB0-9622571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EA64-1ED9-47B3-80F3-8A2066B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AF5A-23CA-4B53-998E-1984FB25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41E1-FAB6-4C3E-82B7-427915CD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F67-453D-4FBE-BA1E-F98A0E5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60A-7DDD-4863-9E4F-056B59DF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683-C6EC-4DF0-BE3A-3C9DADA5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15DD-E4AE-43C4-B6D2-EB26A27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18B3-5944-43DA-9A68-4D5949E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FB6E-37D8-4584-A687-2A854F0C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A384-0694-417F-AE6F-D9E822C2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BD4C-013B-4E81-99A5-53AA467C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6AD4-86DE-46C3-87B8-69E73D0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2407-7B36-4FE4-92D2-5757F8B5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1ED4-4F25-412E-8940-5BC128B3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02E6-B607-4B18-ABF0-D33278BF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205-C986-44C7-A9DB-3F65A20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09BB0-FC54-4960-822D-677BFA6D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08C7-88F5-4FC0-B693-782631D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3DE6-DFD7-45A5-BE8E-7C4F958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A850-CDEF-4613-9BA7-B6B46E1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BA9F-974F-4C2D-9B38-A5BAEBE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74DF-F9FC-4CDF-9054-0BF37238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1074-A914-4A6B-AA94-E47EE2BD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C1C-327A-43E5-8A8C-8E5571FE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A85-20D8-4639-A925-1C1E4C1A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07C-4DFA-40E2-B84B-6E6EDC4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637-5200-440B-B63F-02ACE93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015-6B00-49C4-AB95-A003287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FC5-B996-439A-9CA2-960EF27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1505-573B-45B0-BB01-FF3B4FD88D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447-A9F4-452F-9FB3-E5676DB0A0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5054-FBE7-417B-8B9E-A28DE73CC34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5256360" cy="16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ENGLISH TEN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26920" y="2565360"/>
            <a:ext cx="698508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6000" spc="-1" strike="noStrike">
                <a:solidFill>
                  <a:srgbClr val="00b200"/>
                </a:solidFill>
                <a:latin typeface="Bookman Old Style"/>
              </a:rPr>
              <a:t> PRESENT PERFECT </a:t>
            </a: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5) to presen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987640" y="558972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ow! I’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e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a 5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j0397482"/>
          <p:cNvPicPr/>
          <p:nvPr/>
        </p:nvPicPr>
        <p:blipFill>
          <a:blip r:embed="rId1"/>
          <a:stretch/>
        </p:blipFill>
        <p:spPr>
          <a:xfrm>
            <a:off x="684360" y="1557360"/>
            <a:ext cx="4174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720" y="2421000"/>
            <a:ext cx="3672000" cy="34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olic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e arres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o men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j0398331"/>
          <p:cNvPicPr/>
          <p:nvPr/>
        </p:nvPicPr>
        <p:blipFill>
          <a:blip r:embed="rId1"/>
          <a:stretch/>
        </p:blipFill>
        <p:spPr>
          <a:xfrm>
            <a:off x="755640" y="1341360"/>
            <a:ext cx="41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84836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6). “</a:t>
            </a:r>
            <a:r>
              <a:rPr b="1" i="1" lang="en-US" sz="36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smth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as happened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3280" y="2133360"/>
            <a:ext cx="4105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w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otery!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279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j0424464"/>
          <p:cNvPicPr/>
          <p:nvPr/>
        </p:nvPicPr>
        <p:blipFill>
          <a:blip r:embed="rId1"/>
          <a:stretch/>
        </p:blipFill>
        <p:spPr>
          <a:xfrm>
            <a:off x="539640" y="1700280"/>
            <a:ext cx="3664080" cy="388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95280" y="1557360"/>
            <a:ext cx="8209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1342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7). With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tate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 verbs instead of Continuou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be, dislike, enjoy, feel, hate, hear, know, like, prefer, remember, see, smell, taste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5589720"/>
            <a:ext cx="705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always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liked 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his film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7" descr="j0397436"/>
          <p:cNvPicPr/>
          <p:nvPr/>
        </p:nvPicPr>
        <p:blipFill>
          <a:blip r:embed="rId1"/>
          <a:stretch/>
        </p:blipFill>
        <p:spPr>
          <a:xfrm>
            <a:off x="1763640" y="3195720"/>
            <a:ext cx="5113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9200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he Present Perfect is used with the following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Comic Sans MS"/>
              </a:rPr>
              <a:t>time expression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4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ready (+)/ yet (-;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ever/ 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lately/ recen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476280"/>
          <a:ext cx="7993080" cy="5718240"/>
        </p:xfrm>
        <a:graphic>
          <a:graphicData uri="http://schemas.openxmlformats.org/drawingml/2006/table">
            <a:tbl>
              <a:tblPr/>
              <a:tblGrid>
                <a:gridCol w="2447640"/>
                <a:gridCol w="2737080"/>
                <a:gridCol w="2808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gula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404640"/>
          <a:ext cx="7983720" cy="6212160"/>
        </p:xfrm>
        <a:graphic>
          <a:graphicData uri="http://schemas.openxmlformats.org/drawingml/2006/table">
            <a:tbl>
              <a:tblPr/>
              <a:tblGrid>
                <a:gridCol w="1798920"/>
                <a:gridCol w="3025440"/>
                <a:gridCol w="3159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regula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 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1403280" y="476280"/>
            <a:ext cx="6193080" cy="568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ERFECT</a:t>
            </a:r>
            <a:r>
              <a:rPr b="1" lang="en-US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ve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+ V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Bookman Old Style"/>
                <a:ea typeface="MS Mincho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s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PRESENT PERFECT tens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is used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) to express a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esent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of 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actions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4941360"/>
            <a:ext cx="5761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sn’t do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his homework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Копия 119"/>
          <p:cNvPicPr/>
          <p:nvPr/>
        </p:nvPicPr>
        <p:blipFill>
          <a:blip r:embed="rId1"/>
          <a:stretch/>
        </p:blipFill>
        <p:spPr>
          <a:xfrm>
            <a:off x="900000" y="1700280"/>
            <a:ext cx="712944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5444640"/>
            <a:ext cx="71294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as pick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 lot of appl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2716200" y="1341360"/>
            <a:ext cx="3646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2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fe experience</a:t>
            </a: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, never</a:t>
            </a: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003640" y="2565360"/>
            <a:ext cx="3592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Have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 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been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 chil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18"/>
          <p:cNvPicPr/>
          <p:nvPr/>
        </p:nvPicPr>
        <p:blipFill>
          <a:blip r:embed="rId1"/>
          <a:stretch/>
        </p:blipFill>
        <p:spPr>
          <a:xfrm>
            <a:off x="395280" y="1484280"/>
            <a:ext cx="4608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3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unfinished past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(</a:t>
            </a:r>
            <a:r>
              <a:rPr b="1" i="1" lang="en-US" sz="4000" spc="-1" strike="noStrike" u="sng">
                <a:solidFill>
                  <a:srgbClr val="ff9900"/>
                </a:solidFill>
                <a:uFillTx/>
                <a:latin typeface="Comic Sans MS"/>
              </a:rPr>
              <a:t>since, recently, for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8000" y="5300280"/>
            <a:ext cx="69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riends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20 yea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81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1116000" y="1484280"/>
            <a:ext cx="63374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4)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to expres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ST acti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, period of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, just, yet, this year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120"/>
          <p:cNvPicPr/>
          <p:nvPr/>
        </p:nvPicPr>
        <p:blipFill>
          <a:blip r:embed="rId1"/>
          <a:stretch/>
        </p:blipFill>
        <p:spPr>
          <a:xfrm>
            <a:off x="1332000" y="2060640"/>
            <a:ext cx="4222800" cy="4464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796000" y="2852640"/>
            <a:ext cx="283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ha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cakes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8920" y="5229360"/>
            <a:ext cx="72738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o the circus twic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this week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119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20:19Z</dcterms:created>
  <dc:creator>Нина Ивановна</dc:creator>
  <dc:description/>
  <dc:language>en-US</dc:language>
  <cp:lastModifiedBy>Compte Microsoft</cp:lastModifiedBy>
  <dcterms:modified xsi:type="dcterms:W3CDTF">2022-03-29T18:17:16Z</dcterms:modified>
  <cp:revision>96</cp:revision>
  <dc:subject/>
  <dc:title>Слайд 1</dc:title>
</cp:coreProperties>
</file>